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A2D-0FE2-4489-B071-9A83FAC5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A96-6B15-4215-AB44-C7A9AF3C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A79-CF43-4284-A51E-D61B79EE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059-9297-4173-87F7-BC31DC4F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4057-22B4-439A-B176-726A3322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5BB8-0557-4135-BBB1-826B726D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DFBF-BBE5-4A4C-81D7-67FC878D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3269-8DAC-4AB3-932C-994AC15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0B2F-C88D-423B-B562-0AF639C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E44C-BB82-4C40-B682-0CF523FE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E9ED-9BAD-4FE3-BCFC-1803482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2E1-07F5-4044-B980-FC1E39CA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E814-1E1C-4385-9BB5-215D550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E63-941A-4C70-AD90-95F5613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605A-9EC2-451C-9B17-D3AF6236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BE6C-FE6E-46B6-BD6C-F4563D69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3A5-7BD0-471D-A929-1E35772F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865-66BD-400E-9324-65481540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8B7-49CD-4752-BB78-AA9006FA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4EF-36B3-4930-B451-622E49D2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348-3692-4CE6-ADC2-257A71AE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1E9-AB89-449D-93E0-C0F6249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CA3-8A0C-4A97-8531-F07AE37E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F57-9160-4B14-A420-7ED7511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BBCB-0EF3-4A7A-9DD6-3323174F7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312-02AB-4CF1-ACDB-EAD0AB03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1400" y="732312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44560" y="4282920"/>
            <a:ext cx="7026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68680" y="6908760"/>
            <a:ext cx="702288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October 20, 20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84440" y="5481000"/>
            <a:ext cx="73612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Javolution C++</a:t>
            </a:r>
            <a:br>
              <a:rPr sz="2700"/>
            </a:br>
            <a:r>
              <a:rPr b="1" i="1" lang="en-US" sz="2700" spc="-1" strike="noStrike">
                <a:solidFill>
                  <a:srgbClr val="333399"/>
                </a:solidFill>
                <a:latin typeface="Arial"/>
              </a:rPr>
              <a:t>They call him Ginger!</a:t>
            </a:r>
            <a:br>
              <a:rPr sz="2700"/>
            </a:b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t looks like Java, it tastes likes Java… but it is C++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2"/>
          <a:stretch/>
        </p:blipFill>
        <p:spPr>
          <a:xfrm>
            <a:off x="2602080" y="353880"/>
            <a:ext cx="39938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Miscellaneou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2240" y="1072800"/>
            <a:ext cx="88023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Limited reflection support through R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uto-boxing of primitive types (boolean, integer, float, wide strings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32 i = 23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64 f = 3.5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b = </a:t>
            </a:r>
            <a:r>
              <a:rPr b="0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</a:t>
            </a:r>
            <a:r>
              <a:rPr b="0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"xx"</a:t>
            </a:r>
            <a:r>
              <a:rPr b="0" lang="en-US" sz="1600" spc="-1" strike="noStrike">
                <a:solidFill>
                  <a:srgbClr val="0066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ll variables are initialized to Type::Null (NullPointerException if not set before us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Wide-String (literal) concatenation suppor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5000"/>
              </a:lnSpc>
              <a:buClr>
                <a:srgbClr val="cc3300"/>
              </a:buClr>
              <a:buFont typeface="Courier New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hr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RuntimeException_API::newInstance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5000"/>
              </a:lnSpc>
              <a:buClr>
                <a:srgbClr val="006600"/>
              </a:buClr>
              <a:buFont typeface="Courier New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"Bundle 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symbolicName + </a:t>
            </a:r>
            <a:r>
              <a:rPr b="0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" not in a resolved state“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1600" spc="-1" strike="noStrike">
                <a:solidFill>
                  <a:srgbClr val="0066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ynamic length array Type::Array&lt;type&gt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:Array&lt;ServiceReference&gt; service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 context-&gt;getServiceReferences(serviceName, Type::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erviceReferences.length == 0)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Minor differences with Jav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14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No ‘finally’ keyword in C++ (but try…catch same as Java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tatic methods are called using the name of the class with the suffix ‘_API’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Generalized use of static factory methods, e.g. MyClass_API::newInstance(…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ynchronization not supported on every object but only on those whose class implements the Object_API::getMutex() virtual metho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143240" y="7128000"/>
            <a:ext cx="2455920" cy="309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What next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utomatic translator (JavaCC based)  of Java source code to Javolution C+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ore Java library conversion (e.g. OpenSDK, JScience, …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Help wanted in writing the translator tool </a:t>
            </a:r>
            <a:r>
              <a:rPr b="1" lang="en-US" sz="27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What is the problem?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ore and more hybrid C++/Java projec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eveloper expertise required in both Java and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++ total cost is significantly hig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But cost of migrating existing C++ components to Java is prohibi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tandardized and well established software practices exist in the Java worl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++ developers are on their own (multiple solutions to address the same problems lead to additional complex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any Open-Source implementations of Software Standards exist only in Jav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333399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OSGi, GeoAPI, UnitsOfMeasur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Many causes of variabilit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8802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evelopers expertise varies considerab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Testing performed at the end (integration) due to component inter-dependenci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Insufficient document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Not Invented Here” Syndro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Proprietary solutions not maintained which later become legacy burd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It is very beneficial to follow well-established standard specific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i="1" lang="en-US" sz="2200" spc="-1" strike="noStrike">
                <a:solidFill>
                  <a:srgbClr val="006600"/>
                </a:solidFill>
                <a:latin typeface="Arial"/>
              </a:rPr>
              <a:t>Doing the right thing is difficult, but doing it right is easier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Javo(So)lution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2680" y="1150920"/>
            <a:ext cx="943776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Uniformization of C++/Java development through the use of a common framework (Javolution) based on Java standard library specific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Facilitating the migration of Java OSS code to C+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Promote the “Service Oriented Approach” by providing an OSGi framework for both Java and C++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Reduce documentation by having the same specification/design for our Java and C++ compon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Unification of code building for Java and C++ (maven used for both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e3192"/>
                </a:solidFill>
                <a:latin typeface="Arial"/>
              </a:rPr>
              <a:t>Maven Buil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77880" y="1150560"/>
            <a:ext cx="88027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92"/>
                </a:solidFill>
                <a:latin typeface="Arial"/>
              </a:rPr>
              <a:t>Apache Maven</a:t>
            </a:r>
            <a:r>
              <a:rPr b="0" lang="en-US" sz="2400" spc="-1" strike="noStrike">
                <a:solidFill>
                  <a:srgbClr val="2e3192"/>
                </a:solidFill>
                <a:latin typeface="Arial"/>
              </a:rPr>
              <a:t> (maven native plugin) is used to produce artifacts (dynamic libraries, static libraries, executable) and to perform unit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e3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192"/>
                </a:solidFill>
                <a:latin typeface="Arial"/>
              </a:rPr>
              <a:t>Profiles and packaging classifiers are used to address platform variability (windows, linux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1100160" y="3738600"/>
            <a:ext cx="8383680" cy="323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6264360" y="168120"/>
            <a:ext cx="33782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What is Javolution C++ 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1240" y="1073160"/>
            <a:ext cx="929772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 mirrored C++ library sharing the same specifications, documentation and unit testing as its Java penda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 “behind-the-scenes” C++ infrastructure based on smart pointers (real-time garbage collection through reference counting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Integrated memory cache making small, short lived objects (e.g. value types) very effici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++ packages/classes derived from standard Java (e.g. javolution::lang, javolution::uti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 C++ dynamic execution and testing framework (OSGi &amp; JUnit) identical to Jav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C++ Class Defi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9010800" cy="60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114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general pattern for class/interface is as follo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#includ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javolution/lang/Object.hpp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namespac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 {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namespac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a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_API;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Value type (used to define the A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ypede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:Handle&lt;Foo_API&gt; Foo;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Reference (same as Ja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::bar::Foo_API :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irtual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volution::lang::Object_API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 para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rotecte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_API(Param const&amp; param) {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const&amp; for handles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thi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aram = param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stati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 newInstance(Param const&amp; param) {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Generalized us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return new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_API(param);               </a:t>
            </a:r>
            <a:r>
              <a:rPr b="0" lang="en-US" sz="1600" spc="-1" strike="noStrike">
                <a:solidFill>
                  <a:srgbClr val="32946a"/>
                </a:solidFill>
                <a:latin typeface="Courier New"/>
                <a:ea typeface="Courier New"/>
              </a:rPr>
              <a:t>// factory metho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irtual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oMethod () { ... }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C++ Parameterization – Better than Java!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943776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Unlike Java, C++ class parameterization is not syntactic sugar but efficient use of C++ template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ll javolution::util collections are parameteriz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ring&gt; list = FastTable_API&lt;String&gt;::newInstance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add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  <a:ea typeface="Courier New"/>
              </a:rPr>
              <a:t>L"First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add(Type::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-&gt;add(</a:t>
            </a:r>
            <a:r>
              <a:rPr b="0" lang="en-US" sz="1600" spc="-1" strike="noStrike">
                <a:solidFill>
                  <a:srgbClr val="2a00ff"/>
                </a:solidFill>
                <a:latin typeface="Courier New"/>
                <a:ea typeface="Courier New"/>
              </a:rPr>
              <a:t>L"Second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Also used for Java-Like Enu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195120"/>
            <a:ext cx="905508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3399"/>
                </a:solidFill>
                <a:latin typeface="Arial"/>
              </a:rPr>
              <a:t>Synchroniz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77880" y="1150920"/>
            <a:ext cx="918360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Supported through a macro: </a:t>
            </a:r>
            <a:r>
              <a:rPr b="1" lang="en-US" sz="2700" spc="-1" strike="noStrike">
                <a:solidFill>
                  <a:srgbClr val="cc3300"/>
                </a:solidFill>
                <a:latin typeface="Arial"/>
              </a:rPr>
              <a:t>synchronized(Object)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mimicking the Java synchronized keyword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Can be performed on instances of Javolution collections and Class (for static synchronization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Courier New"/>
                <a:ea typeface="Courier New"/>
              </a:rPr>
              <a:t>synchronize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trackedServices) {</a:t>
            </a:r>
            <a:r>
              <a:rPr b="0" lang="en-US" sz="1600" spc="-1" strike="noStrike">
                <a:solidFill>
                  <a:srgbClr val="3f7f5f"/>
                </a:solidFill>
                <a:latin typeface="Courier New"/>
                <a:ea typeface="Courier New"/>
              </a:rPr>
              <a:t>// trackedServices instance of Fast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0055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0; i &lt; serviceReferences.length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 actualCustomizer-&gt;addingService(serviceReferences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kedServices-&gt;put(serviceReferences[i], servi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king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ean-Marie DAUTELLE</cp:lastModifiedBy>
  <dcterms:modified xsi:type="dcterms:W3CDTF">2012-11-16T18:38:42Z</dcterms:modified>
  <cp:revision>36</cp:revision>
  <dc:subject/>
  <dc:title>PowerPoint Presentation</dc:title>
</cp:coreProperties>
</file>